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241-D3B0-435F-81B8-A7327FB7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539-4A1C-442E-8780-77A98C6D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576-C98B-4648-963E-7661585B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371-E0DE-4CDA-B46E-649565B6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6F7C-0C28-493E-9341-81F75016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7064-E89D-4DE2-A34F-844DCC74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5E87-7209-4993-A8C6-279D09B6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D2D7-B504-43DE-8537-5E68A92A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60C6-2D0E-4961-B159-0EF28591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E9FC-D04D-4B6D-ABFD-CAFD8C68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B850-05A9-4B0B-AD0B-9645DF6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174-644D-4DBD-9D2C-DC54D4FA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66EF-30C3-443C-A4A3-8DF0C112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3C8-08A1-444E-AB30-30FFC9F7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D959-1061-4FBC-B302-97230C6A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78F9-9595-4A19-82F8-BD3FDA50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0381-E55C-48FB-9ACE-C612BE56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CF03-E8D1-4159-802E-FB4CBF36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D10B-7AE1-445F-A634-0A1693A8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723F1-5BA8-4300-94C6-90AA8D93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BBF0-0D02-4523-9886-093DD0FD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54DE-D70A-4B31-A63B-CC3B0894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E13-4971-489A-84CB-73EDE56C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F56F-BDF0-41B8-9DFF-3D79641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5EA3-4D43-4ABF-BA22-65966F28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74CF-6DF2-4982-8433-21E70A3C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DE5D-4D26-466D-9EF6-93014BB3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A78B-BCB5-4EE1-A3E5-CCE42665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88C6-F05B-49D6-B52B-F287332D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8DCC-2FD3-46A8-9F53-E5D93063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965A-8429-4C2F-BE7A-ED439D48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E8AC-47F6-4A0E-AF86-9FBFE552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6E900-AA83-4DA3-8EEA-F9BF29C7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F2B-9F0F-47DB-BC56-699272FD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EEC4-9B72-4FE2-B536-996D62B5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366B-AB62-4551-B360-C80DC3F4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1C1A-8159-450B-A218-90A6E059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B7E2-C71F-4367-91A7-CD1CB248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11D4-58FB-467F-A6ED-B2097C44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B6476-30E6-441E-89F0-4BFAFBF0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9ADDE-BF42-4EBE-8769-87AD632E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0BC7-0D63-41FE-B6C4-0AA6A6F3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722D-C2B7-4963-B85B-FD6D7E35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C544E-37A1-4F25-9F57-DDF1C83B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4BC-768A-427C-9D0B-DC6D53F4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6DFD7-9D52-4718-BB67-24C33BDD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BFA21-16B8-4A4C-918A-181165FF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14999-2806-48F8-A598-4B0AF85A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1028-E66C-4566-A41C-2B9039B0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EBBFD-BA8A-4D37-ADFE-F21F7A6C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3564F-A3B5-459D-8195-9250F833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258C0-1FDC-41B8-A652-266E9EC2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50CC-D28A-4386-90C6-F05E243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CE7CA-DA68-409D-945A-768E9993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34425-0E8F-4D1B-9D62-6E9FBCA9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4E4-D698-4F2E-A102-178FD231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3CBDA-D439-4FC5-86FE-43215087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2BF-0049-4126-92DF-5BCC9F6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180-F1AE-4981-8776-DAA8C14F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371-64DA-4F46-9BF6-539C8901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A411-91A1-4866-B371-7DAD72A40C0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AFC7-0701-4E17-A193-DAD08679A5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554C-584F-45F8-B00C-7D2E32256F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33AF-2E51-4E85-B2C2-326FB003E9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7586-FDDB-4DB0-9C5E-192AF27C2C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85480" y="27144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"/>
              </a:rPr>
              <a:t>The Guest Room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HOTEL MANAGEMEN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30" name="Picture 13" descr="j0217872[1]"/>
          <p:cNvPicPr/>
          <p:nvPr/>
        </p:nvPicPr>
        <p:blipFill>
          <a:blip r:embed="rId1">
            <a:grayscl/>
          </a:blip>
          <a:stretch/>
        </p:blipFill>
        <p:spPr>
          <a:xfrm>
            <a:off x="5857920" y="3429000"/>
            <a:ext cx="2905200" cy="2921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Melior_Business_School.PNG"/>
          <p:cNvPicPr/>
          <p:nvPr/>
        </p:nvPicPr>
        <p:blipFill>
          <a:blip r:embed="rId2"/>
          <a:stretch/>
        </p:blipFill>
        <p:spPr>
          <a:xfrm>
            <a:off x="285840" y="6072120"/>
            <a:ext cx="15001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2roomlayou.jpg"/>
          <p:cNvPicPr/>
          <p:nvPr/>
        </p:nvPicPr>
        <p:blipFill>
          <a:blip r:embed="rId1"/>
          <a:stretch/>
        </p:blipFill>
        <p:spPr>
          <a:xfrm>
            <a:off x="590400" y="233280"/>
            <a:ext cx="812484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uite Configur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uite configur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volves larger rooms (in terms of square footag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y definition the suite must only be larger than the standard and may not include greater levels of service or amenit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Varying sizes of suites allow the hotel to charge higher rates for bigger roo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PHXSPPR_Pointe_Hilton_Squaw_Peak_Resort_accom_executive.jpg"/>
          <p:cNvPicPr/>
          <p:nvPr/>
        </p:nvPicPr>
        <p:blipFill>
          <a:blip r:embed="rId1"/>
          <a:stretch/>
        </p:blipFill>
        <p:spPr>
          <a:xfrm>
            <a:off x="214200" y="82440"/>
            <a:ext cx="8715600" cy="64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uite Configuration (Cont…)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ites are identified by their size in relation to the standard configuration and the names may differ from hotel to ho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 example of how the suite names may change respective to the room size is as follow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nr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rner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i-level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spitality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esidential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acc_hospitality.jpg"/>
          <p:cNvPicPr/>
          <p:nvPr/>
        </p:nvPicPr>
        <p:blipFill>
          <a:blip r:embed="rId1"/>
          <a:stretch/>
        </p:blipFill>
        <p:spPr>
          <a:xfrm>
            <a:off x="357120" y="250920"/>
            <a:ext cx="814392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floor-plan-presidential-suite.jpg"/>
          <p:cNvPicPr/>
          <p:nvPr/>
        </p:nvPicPr>
        <p:blipFill>
          <a:blip r:embed="rId1"/>
          <a:stretch/>
        </p:blipFill>
        <p:spPr>
          <a:xfrm>
            <a:off x="357120" y="177840"/>
            <a:ext cx="828684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Franklin Gothic Book"/>
              </a:rPr>
              <a:t>Room Configurations and Target Markets</a:t>
            </a:r>
            <a:endParaRPr b="0" lang="en-US" sz="3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 configurations remain constant amongst all hotel target marke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tandard configuration is the category of guest room that is the most prevalent at a specific ho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suite hotels have enhanced configurations and larger suites as we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ended stay target market also uses the same philosoph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Disabled Access Configur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isabled access configurations include rooms that are equipped to make the overnight stay of the disabled guest more pleasant and may include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ised bed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der doorway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lecommunication Devi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oice activated dial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ocks with larger, brighter numb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osed caption televis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vated toile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Franklin Gothic Book"/>
              </a:rPr>
              <a:t>Disabled Access Configuration (Cont…)</a:t>
            </a:r>
            <a:endParaRPr b="0" lang="en-US" sz="3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isabled configuration equipment continued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athrooms equipped with metal handrai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oll in show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isual alert smoke detectors, door knocks, telephones and alarm cloc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Designation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nal remaining identifier for room categories is 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oom design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identifies whether it is a smoking or nonsmoking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early 1980’s hotels began to convert a portion of their sleeping rooms to permanently nonsmoking roo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y hotels particularly in North America are now 100% non smo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ontent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ategorizing the guest roo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Guest Room Make Up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Key Control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Review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Preferenc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oom type, configuration and designation all come together to create the specific room a hotel guest may see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3348000" y="4653000"/>
            <a:ext cx="398520" cy="1162080"/>
          </a:xfrm>
          <a:custGeom>
            <a:avLst/>
            <a:gdLst>
              <a:gd name="textAreaLeft" fmla="*/ 53280 w 398520"/>
              <a:gd name="textAreaRight" fmla="*/ 345240 w 398520"/>
              <a:gd name="textAreaTop" fmla="*/ 203400 h 1162080"/>
              <a:gd name="textAreaBottom" fmla="*/ 842760 h 116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AutoShape 7"/>
          <p:cNvSpPr/>
          <p:nvPr/>
        </p:nvSpPr>
        <p:spPr>
          <a:xfrm flipH="1">
            <a:off x="5002920" y="3645000"/>
            <a:ext cx="398520" cy="1224000"/>
          </a:xfrm>
          <a:custGeom>
            <a:avLst/>
            <a:gdLst>
              <a:gd name="textAreaLeft" fmla="*/ 53280 w 398520"/>
              <a:gd name="textAreaRight" fmla="*/ 345240 w 3985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3276720" y="2852640"/>
            <a:ext cx="398520" cy="1162080"/>
          </a:xfrm>
          <a:custGeom>
            <a:avLst/>
            <a:gdLst>
              <a:gd name="textAreaLeft" fmla="*/ 53280 w 398520"/>
              <a:gd name="textAreaRight" fmla="*/ 345240 w 398520"/>
              <a:gd name="textAreaTop" fmla="*/ 203400 h 1162080"/>
              <a:gd name="textAreaBottom" fmla="*/ 842760 h 116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492360" y="2852640"/>
            <a:ext cx="18716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Verdana"/>
              </a:rPr>
              <a:t>Room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Verdana"/>
              </a:rPr>
              <a:t>Room Configu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Verdana"/>
              </a:rPr>
              <a:t>Room Desig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Verdana"/>
              </a:rPr>
              <a:t>Guestroom P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12"/>
          <p:cNvSpPr/>
          <p:nvPr/>
        </p:nvSpPr>
        <p:spPr>
          <a:xfrm flipV="1">
            <a:off x="5148360" y="2781360"/>
            <a:ext cx="1008000" cy="2174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700360" y="4149720"/>
            <a:ext cx="936720" cy="2872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5148360" y="4797360"/>
            <a:ext cx="1008000" cy="2160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6156360" y="2732040"/>
            <a:ext cx="1224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i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6156360" y="4653000"/>
            <a:ext cx="12240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mo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smo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1330200" y="4149720"/>
            <a:ext cx="17290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ndar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hanced Su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bles Acc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Numbering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signing guest room numbers is the identification method hotels have used for most of hi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ically, odd numbers are on one side of the floor, even numbers on the oth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ever pattern is begun with the initial guest rooms floor, it is carried on throughout the remainder of the floo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equential Room Numbering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853920" y="32878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853920" y="44308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8"/>
          <p:cNvSpPr/>
          <p:nvPr/>
        </p:nvSpPr>
        <p:spPr>
          <a:xfrm flipV="1">
            <a:off x="2301840" y="2144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Line 9"/>
          <p:cNvSpPr/>
          <p:nvPr/>
        </p:nvSpPr>
        <p:spPr>
          <a:xfrm flipV="1">
            <a:off x="5121360" y="2144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3749760" y="2144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11"/>
          <p:cNvSpPr/>
          <p:nvPr/>
        </p:nvSpPr>
        <p:spPr>
          <a:xfrm flipV="1">
            <a:off x="6721560" y="2144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12"/>
          <p:cNvSpPr/>
          <p:nvPr/>
        </p:nvSpPr>
        <p:spPr>
          <a:xfrm>
            <a:off x="1311120" y="3287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13"/>
          <p:cNvSpPr/>
          <p:nvPr/>
        </p:nvSpPr>
        <p:spPr>
          <a:xfrm>
            <a:off x="5578560" y="3287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4282920" y="3287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>
            <a:off x="2759040" y="3287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7178760" y="3287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1311120" y="4430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2759040" y="4430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4282920" y="4430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Line 20"/>
          <p:cNvSpPr/>
          <p:nvPr/>
        </p:nvSpPr>
        <p:spPr>
          <a:xfrm>
            <a:off x="5730840" y="4430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21"/>
          <p:cNvSpPr/>
          <p:nvPr/>
        </p:nvSpPr>
        <p:spPr>
          <a:xfrm flipV="1">
            <a:off x="2378160" y="4430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22"/>
          <p:cNvSpPr/>
          <p:nvPr/>
        </p:nvSpPr>
        <p:spPr>
          <a:xfrm flipV="1">
            <a:off x="3902040" y="4430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23"/>
          <p:cNvSpPr/>
          <p:nvPr/>
        </p:nvSpPr>
        <p:spPr>
          <a:xfrm flipV="1">
            <a:off x="5197320" y="4430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4"/>
          <p:cNvSpPr/>
          <p:nvPr/>
        </p:nvSpPr>
        <p:spPr>
          <a:xfrm flipV="1">
            <a:off x="6797520" y="4430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25"/>
          <p:cNvSpPr/>
          <p:nvPr/>
        </p:nvSpPr>
        <p:spPr>
          <a:xfrm>
            <a:off x="865080" y="2160720"/>
            <a:ext cx="716292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26"/>
          <p:cNvSpPr/>
          <p:nvPr/>
        </p:nvSpPr>
        <p:spPr>
          <a:xfrm>
            <a:off x="2630520" y="369576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st Floor Guest Room Corrid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27"/>
          <p:cNvSpPr/>
          <p:nvPr/>
        </p:nvSpPr>
        <p:spPr>
          <a:xfrm>
            <a:off x="1143000" y="2486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10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10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1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28"/>
          <p:cNvSpPr/>
          <p:nvPr/>
        </p:nvSpPr>
        <p:spPr>
          <a:xfrm>
            <a:off x="1143000" y="4772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10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1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8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1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Status Reconcili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 status reconciliation is defined as ensuring that rooms are properly designated by their current status and assigned a new status as it chan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th housekeeping and the front desk maintain room stat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s status categories/designations are groups by the guest room’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ate of Occupanc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ate of cleanlin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ate of excep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tate of Occupancy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ccupie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applies to a room that has been assigned to a guest and that guest has checked 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Vacan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the guest has checked out of the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the room is available for new occupanc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Franklin Gothic Book"/>
              </a:rPr>
              <a:t>State of Cleanliness &amp; Exception</a:t>
            </a:r>
            <a:endParaRPr b="0" lang="en-US" sz="3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tate of Cleanlines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has two categori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Dirt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room has not been cleaned by housekeep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room has been cleaned but not yet verified as cle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tate of Exception –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 was removed from inventory for a specific reason (e.g. repairs or renova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Status Cod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3203640" y="1844640"/>
          <a:ext cx="17002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844640"/>
                    <a:ext cx="17002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Line 5"/>
          <p:cNvSpPr/>
          <p:nvPr/>
        </p:nvSpPr>
        <p:spPr>
          <a:xfrm flipV="1">
            <a:off x="4500720" y="5792400"/>
            <a:ext cx="13665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6"/>
          <p:cNvSpPr/>
          <p:nvPr/>
        </p:nvSpPr>
        <p:spPr>
          <a:xfrm flipV="1">
            <a:off x="5867280" y="2708280"/>
            <a:ext cx="0" cy="308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643280" y="2706840"/>
            <a:ext cx="1224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3200400" y="2448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3200400" y="3514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3200400" y="4429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3200400" y="5495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276720" y="1758960"/>
            <a:ext cx="143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Status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667640" y="59500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4-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Guest Room Makeup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duct for sale is a place to sleep, so all guest rooms have a bed of some kind and the other universal items in a guest room are phone, television and a bat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otels are given industry ratings based in part on the makeup of their guest rooms and what is inside th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tandard configuration of every hotel room always contains the universal ite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tandard Configuration Item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-room work station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ull out sofa beds or Murphy be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One or more night stan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anity area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ffee mak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rons and ironing boar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-room saf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oset/dress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lackout drap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ock radio or alar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otel collatera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lection of local director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hones with message ligh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veral chains offer retrieval of written messages on a CCTV channe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-room mov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ideo games may be availab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ta 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Glasses and ice bucke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ini ba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limentary newspap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Key Control System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ey control systems are used to ensure guest safety by changing the access to a guest room between gues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ey control systems evolved into systems that were easy to replace with key car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se key cards are reprogrammed for each new guest and if the card is lost it can be erased easi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ost key cards pose no security risk as there is no room number printed on th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ategorizing the Guest Room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Typ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Configur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Design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Numbe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Status Reconcili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Typ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oom typ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re based on the intended number of occup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ndard type is based on one occupant – this is calle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ingle occupanc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single occupancy rooms have a lower rate than those with two guests in a room,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lled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double occupancy roo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ripl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d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quad occupanc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s are for three and four guests respectiv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Configuration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oom configuratio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characterise the physical make up of a guest room, therefore looking at differences in guest rooms within a particular ho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 configurations are an important aspect of how a hotel will determine the sleeping room r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fering guests an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pgrad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llows the hotel the potential for increased room reven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tandard Configur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tandard configurat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s defined as the room configuration that makes up the majority of the sleeping rooms at a particular ho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 hotels refer to their standard configuration as 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un of house (ROH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un of house rooms are understood to be the greatest number of available roo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new trend has standard rooms being referred to as “deluxe” or “superior” rooms which can be perceived as added val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ontent Placeholder 3" descr="queendblroom.gif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Enhanced Configur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nhanced configur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the next level up from the standard configu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understood to include more amenities and services than the standard configu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times called a “concierge” or “business level” room, these rooms carry a higher room rate than the standard configu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Enhanced Configuration (Cont.)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ooms offer everything the standard room do plus extra services/ amenities which may inclu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pgraded soft goo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pgraded hard goo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pgraded ameniti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tems targeted to the business travell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ccess to a private loun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2T03:31:06Z</dcterms:modified>
  <cp:revision>118</cp:revision>
  <dc:subject/>
  <dc:title>FRONT OFFICE OPERATIONS MANAGEMENT</dc:title>
</cp:coreProperties>
</file>